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E8E-2C86-4610-86B8-0038A754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A71-E644-44FB-A383-BA122465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AC9-DA45-4295-9171-79AF8AE9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000-C4EE-4916-A5BE-F4667628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16E-3722-4D38-9DB6-B5661ABE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3B1-5890-454C-A049-3F5115F2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FFD-B17B-4354-B11D-9D48EBDA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513-6335-4891-9534-12439175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B613-D3D0-4540-904F-9788C353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E2A-7369-4A8F-A11E-4A8B3724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8FF-4B09-4F88-9AF4-21A07422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4BE-B61F-41CD-9461-5160F82C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57F1-B34B-45D4-8CAA-33E66EE04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943600" cy="4726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 11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tate and Predict 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80010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ndelian Inheritance and Making Predic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le:  A form of a gene.  Humans have 2 for each tra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Normal Skin (domin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Albanism (recessiv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bination of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what tra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typ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40630" t="15870" r="0" b="0"/>
          <a:stretch/>
        </p:blipFill>
        <p:spPr>
          <a:xfrm>
            <a:off x="5029200" y="2438280"/>
            <a:ext cx="3886200" cy="3797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20240" y="3097080"/>
            <a:ext cx="204480" cy="509760"/>
          </a:xfrm>
          <a:custGeom>
            <a:avLst/>
            <a:gdLst/>
            <a:ahLst/>
            <a:rect l="l" t="t" r="r" b="b"/>
            <a:pathLst>
              <a:path w="569" h="1415">
                <a:moveTo>
                  <a:pt x="23253" y="8675"/>
                </a:moveTo>
                <a:cubicBezTo>
                  <a:pt x="23229" y="8657"/>
                  <a:pt x="23219" y="8646"/>
                  <a:pt x="23205" y="8620"/>
                </a:cubicBezTo>
                <a:cubicBezTo>
                  <a:pt x="23201" y="8614"/>
                  <a:pt x="23198" y="8609"/>
                  <a:pt x="23194" y="8603"/>
                </a:cubicBezTo>
                <a:cubicBezTo>
                  <a:pt x="23205" y="8628"/>
                  <a:pt x="23216" y="8653"/>
                  <a:pt x="23228" y="8678"/>
                </a:cubicBezTo>
                <a:cubicBezTo>
                  <a:pt x="23240" y="8703"/>
                  <a:pt x="23258" y="8727"/>
                  <a:pt x="23267" y="8753"/>
                </a:cubicBezTo>
                <a:cubicBezTo>
                  <a:pt x="23276" y="8777"/>
                  <a:pt x="23277" y="8804"/>
                  <a:pt x="23289" y="8827"/>
                </a:cubicBezTo>
                <a:cubicBezTo>
                  <a:pt x="23302" y="8851"/>
                  <a:pt x="23315" y="8879"/>
                  <a:pt x="23332" y="8900"/>
                </a:cubicBezTo>
                <a:cubicBezTo>
                  <a:pt x="23346" y="8915"/>
                  <a:pt x="23350" y="8920"/>
                  <a:pt x="23352" y="8896"/>
                </a:cubicBezTo>
              </a:path>
              <a:path w="569" h="1415">
                <a:moveTo>
                  <a:pt x="22983" y="8748"/>
                </a:moveTo>
                <a:cubicBezTo>
                  <a:pt x="22972" y="8730"/>
                  <a:pt x="22970" y="8724"/>
                  <a:pt x="22958" y="8716"/>
                </a:cubicBezTo>
                <a:cubicBezTo>
                  <a:pt x="22968" y="8745"/>
                  <a:pt x="22979" y="8776"/>
                  <a:pt x="22996" y="8802"/>
                </a:cubicBezTo>
                <a:cubicBezTo>
                  <a:pt x="23011" y="8826"/>
                  <a:pt x="23026" y="8851"/>
                  <a:pt x="23043" y="8873"/>
                </a:cubicBezTo>
                <a:cubicBezTo>
                  <a:pt x="23066" y="8904"/>
                  <a:pt x="23084" y="8938"/>
                  <a:pt x="23107" y="8969"/>
                </a:cubicBezTo>
                <a:cubicBezTo>
                  <a:pt x="23130" y="9000"/>
                  <a:pt x="23155" y="9030"/>
                  <a:pt x="23176" y="9063"/>
                </a:cubicBezTo>
                <a:cubicBezTo>
                  <a:pt x="23200" y="9101"/>
                  <a:pt x="23225" y="9139"/>
                  <a:pt x="23250" y="9177"/>
                </a:cubicBezTo>
                <a:cubicBezTo>
                  <a:pt x="23268" y="9204"/>
                  <a:pt x="23286" y="9231"/>
                  <a:pt x="23307" y="9256"/>
                </a:cubicBezTo>
                <a:cubicBezTo>
                  <a:pt x="23331" y="9284"/>
                  <a:pt x="23363" y="9306"/>
                  <a:pt x="23380" y="9340"/>
                </a:cubicBezTo>
                <a:cubicBezTo>
                  <a:pt x="23389" y="9359"/>
                  <a:pt x="23392" y="9377"/>
                  <a:pt x="23402" y="9396"/>
                </a:cubicBezTo>
              </a:path>
              <a:path w="569" h="1415">
                <a:moveTo>
                  <a:pt x="22958" y="9110"/>
                </a:moveTo>
                <a:cubicBezTo>
                  <a:pt x="22937" y="9093"/>
                  <a:pt x="22936" y="9098"/>
                  <a:pt x="22913" y="9093"/>
                </a:cubicBezTo>
                <a:cubicBezTo>
                  <a:pt x="22931" y="9140"/>
                  <a:pt x="22953" y="9185"/>
                  <a:pt x="22983" y="9226"/>
                </a:cubicBezTo>
                <a:cubicBezTo>
                  <a:pt x="23003" y="9254"/>
                  <a:pt x="23024" y="9282"/>
                  <a:pt x="23045" y="9310"/>
                </a:cubicBezTo>
                <a:cubicBezTo>
                  <a:pt x="23065" y="9336"/>
                  <a:pt x="23086" y="9363"/>
                  <a:pt x="23103" y="9391"/>
                </a:cubicBezTo>
                <a:cubicBezTo>
                  <a:pt x="23119" y="9416"/>
                  <a:pt x="23133" y="9442"/>
                  <a:pt x="23150" y="9466"/>
                </a:cubicBezTo>
                <a:cubicBezTo>
                  <a:pt x="23171" y="9497"/>
                  <a:pt x="23190" y="9528"/>
                  <a:pt x="23211" y="9559"/>
                </a:cubicBezTo>
                <a:cubicBezTo>
                  <a:pt x="23233" y="9592"/>
                  <a:pt x="23259" y="9622"/>
                  <a:pt x="23280" y="9655"/>
                </a:cubicBezTo>
                <a:cubicBezTo>
                  <a:pt x="23311" y="9703"/>
                  <a:pt x="23328" y="9757"/>
                  <a:pt x="23354" y="9807"/>
                </a:cubicBezTo>
              </a:path>
              <a:path w="569" h="1415">
                <a:moveTo>
                  <a:pt x="22850" y="9582"/>
                </a:moveTo>
                <a:cubicBezTo>
                  <a:pt x="22845" y="9576"/>
                  <a:pt x="22839" y="9571"/>
                  <a:pt x="22834" y="9565"/>
                </a:cubicBezTo>
                <a:cubicBezTo>
                  <a:pt x="22850" y="9595"/>
                  <a:pt x="22870" y="9622"/>
                  <a:pt x="22892" y="9648"/>
                </a:cubicBezTo>
                <a:cubicBezTo>
                  <a:pt x="22919" y="9680"/>
                  <a:pt x="22946" y="9710"/>
                  <a:pt x="22971" y="9743"/>
                </a:cubicBezTo>
                <a:cubicBezTo>
                  <a:pt x="22995" y="9775"/>
                  <a:pt x="23017" y="9808"/>
                  <a:pt x="23042" y="9839"/>
                </a:cubicBezTo>
                <a:cubicBezTo>
                  <a:pt x="23062" y="9864"/>
                  <a:pt x="23086" y="9885"/>
                  <a:pt x="23106" y="9910"/>
                </a:cubicBezTo>
                <a:cubicBezTo>
                  <a:pt x="23124" y="9933"/>
                  <a:pt x="23150" y="9956"/>
                  <a:pt x="23165" y="9981"/>
                </a:cubicBezTo>
                <a:cubicBezTo>
                  <a:pt x="23173" y="9999"/>
                  <a:pt x="23175" y="10004"/>
                  <a:pt x="23175" y="10017"/>
                </a:cubicBezTo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: Domi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rganism with at least 1 dominant allele will exhibit the dominant trai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n by CAPITAL LETTERS (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 and Ss will have normal sk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: Rece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a recessive trait to be expressed, two copies of that allele must be pres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n by lower case letters 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 will have alb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it mean?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erozygous or Homozygous     (Word dissec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terozyg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 and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 homozygous do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 homozygous reces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erozygous or Homozygous Geno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1536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skin disord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2857680" cy="3409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048120" y="30481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09480" y="1219320"/>
            <a:ext cx="3821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banism or Normal Sk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normal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alb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typ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en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2590920"/>
            <a:ext cx="449568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3434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genoty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rresponding phenoty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Voc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Br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you wanted to make a prediction for 20 offsp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16002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37339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gor Mendel’s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of Genetic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with pea plants because they are small, easy to grow, and produced large quantities of off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characteristics are observable on pea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its-characteristics like color, heigh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Mendel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ertilized the plants (P1) to observe what traits were present in the offspring (F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….F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lf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 plants self ferti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oss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ifferent pea plants ferti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914400" cy="86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457200"/>
            <a:ext cx="914400" cy="870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523880" y="1936800"/>
            <a:ext cx="5562720" cy="4921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523880" y="1523880"/>
            <a:ext cx="609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delian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’s characteristics are determined by factors that are passed from one parental generation to the n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5896080" cy="571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5181840" cy="3700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133720" y="685800"/>
            <a:ext cx="4714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minant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dominant phenoty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00600" y="15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essive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as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recessive phenoty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7:57:04Z</dcterms:created>
  <dc:creator>Tera Linn</dc:creator>
  <dc:description/>
  <dc:language>en-US</dc:language>
  <cp:lastModifiedBy>Tera Linn</cp:lastModifiedBy>
  <dcterms:modified xsi:type="dcterms:W3CDTF">2011-04-18T19:21:44Z</dcterms:modified>
  <cp:revision>12</cp:revision>
  <dc:subject/>
  <dc:title>Ch 11 Genetics</dc:title>
</cp:coreProperties>
</file>